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224-CD6A-4422-AC4E-FDF29C43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B19-F96D-444E-BCE5-6E3ACAF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1D8-29F4-4495-B868-6D8FD645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DED-10DC-440F-A0C6-097F5E52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EB1-F985-4993-9D7F-D5892355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D60-AA39-4307-B32F-D7E6FCDF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429-247B-4D31-9D4A-5A96D57F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B93-91DD-49F8-81D1-596EB53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7C6-6B32-4EF2-ACE3-B976523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901-EE13-49C1-8200-6887D6E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BFD-C92D-478B-899B-FD0F633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3BE-F906-40B6-8E20-61FD611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073-F74C-4EA5-AE13-4C71A98E1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6002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582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582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1430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6002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1430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6858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286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6858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154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9154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14240" y="3114720"/>
            <a:ext cx="914040" cy="781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5105520"/>
            <a:ext cx="205740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ss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105520"/>
            <a:ext cx="281952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se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ing tessel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540000">
            <a:off x="231480" y="555840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540000">
            <a:off x="16030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1540000">
            <a:off x="29746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1540000">
            <a:off x="43462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540000">
            <a:off x="57178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540000">
            <a:off x="70894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1540000">
            <a:off x="84610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540000">
            <a:off x="-682560" y="433584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1540000">
            <a:off x="6886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540000">
            <a:off x="20602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540000">
            <a:off x="34318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540000">
            <a:off x="48034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1540000">
            <a:off x="61750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540000">
            <a:off x="75466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540000">
            <a:off x="-225360" y="311688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540000">
            <a:off x="11458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1540000">
            <a:off x="38890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540000">
            <a:off x="52606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1540000">
            <a:off x="66322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1540000">
            <a:off x="80038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40000">
            <a:off x="231480" y="189756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1540000">
            <a:off x="16030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540000">
            <a:off x="29746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1540000">
            <a:off x="43462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1540000">
            <a:off x="57178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1540000">
            <a:off x="70894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1540000">
            <a:off x="84610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540000">
            <a:off x="688680" y="67824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540000">
            <a:off x="20602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540000">
            <a:off x="34318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1540000">
            <a:off x="48034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1540000">
            <a:off x="61750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540000">
            <a:off x="75466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1540000">
            <a:off x="-68256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685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rcos’ Til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191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create a tile pattern with a single parallel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105520"/>
            <a:ext cx="281952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move 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8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5 -2.22222E-006 E">
                                      <p:cBhvr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3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 -0.17778 E">
                                      <p:cBhvr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05 -0.17778 E">
                                      <p:cBhvr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3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 -0.17778 E">
                                      <p:cBhvr>
                                        <p:cTn id="4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3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5 -2.22222E-006 E">
                                      <p:cBhvr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 0.17778 E">
                                      <p:cBhvr>
                                        <p:cTn id="6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93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05 0.17778 E">
                                      <p:cBhvr>
                                        <p:cTn id="7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3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 0.17778 E">
                                      <p:cBhvr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3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5 0.17778 E">
                                      <p:cBhvr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67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 -2.22222E-006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1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5 -0.17778 E">
                                      <p:cBhvr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 -0.35555 E">
                                      <p:cBhvr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9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5 -0.35555 E">
                                      <p:cBhvr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2299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 -0.35555 E">
                                      <p:cBhvr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7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05 -0.35555 E">
                                      <p:cBhvr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1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 -0.35555 E">
                                      <p:cBhvr>
                                        <p:cTn id="15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5 -0.17778 E">
                                      <p:cBhvr>
                                        <p:cTn id="162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79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 -2.22222E-006 E">
                                      <p:cBhvr>
                                        <p:cTn id="17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93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5 0.17778 E">
                                      <p:cBhvr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7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 0.35556 E">
                                      <p:cBhvr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21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5 0.35556 E">
                                      <p:cBhvr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5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 0.35556 E">
                                      <p:cBhvr>
                                        <p:cTn id="2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49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05 0.35556 E">
                                      <p:cBhvr>
                                        <p:cTn id="21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63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 0.35556 E">
                                      <p:cBhvr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77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5 0.35556 E">
                                      <p:cBhvr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6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 0.17778 E">
                                      <p:cBhvr>
                                        <p:cTn id="243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5 -2.22222E-006 E">
                                      <p:cBhvr>
                                        <p:cTn id="252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4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 -0.17778 E">
                                      <p:cBhvr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13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5 -0.35555 E">
                                      <p:cBhvr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22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5 -0.35555 E">
                                      <p:cBhvr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31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 -0.17778 E">
                                      <p:cBhvr>
                                        <p:cTn id="288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4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5 -2.22222E-006 E">
                                      <p:cBhvr>
                                        <p:cTn id="297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49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5 0.17778 E">
                                      <p:cBhvr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8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5 0.53334 E">
                                      <p:cBhvr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67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 0.53334 E">
                                      <p:cBhvr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76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5 0.53334 E">
                                      <p:cBhvr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5.55112E-017 0.53334 E">
                                      <p:cBhvr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94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5 0.53334 E">
                                      <p:cBhvr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3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 0.53334 E">
                                      <p:cBhvr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120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5 0.53334 E">
                                      <p:cBhvr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21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 0.35556 E">
                                      <p:cBhvr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3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5 0.17778 E">
                                      <p:cBhvr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3900"/>
                            </p:stCondLst>
                            <p:childTnLst>
                              <p:par>
                                <p:cTn id="3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 -2.22222E-006 E">
                                      <p:cBhvr>
                                        <p:cTn id="39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48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5 -0.17778 E">
                                      <p:cBhvr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4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57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5 -0.35555 E">
                                      <p:cBhvr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66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 0.53334 E">
                                      <p:cBhvr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75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5 0.35556 E">
                                      <p:cBhvr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4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84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1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7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3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9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1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1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1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1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91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410080" y="5105520"/>
            <a:ext cx="205740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ss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105520"/>
            <a:ext cx="281952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191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pposite angles of a parallelogram congru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685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rcos’ Til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289240"/>
            <a:ext cx="1828800" cy="1218960"/>
          </a:xfrm>
          <a:prstGeom prst="parallelogram">
            <a:avLst>
              <a:gd name="adj" fmla="val 37507"/>
            </a:avLst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11000" y="1729080"/>
            <a:ext cx="2289600" cy="2179440"/>
            <a:chOff x="2511000" y="1729080"/>
            <a:chExt cx="2289600" cy="2179440"/>
          </a:xfrm>
        </p:grpSpPr>
        <p:sp>
          <p:nvSpPr>
            <p:cNvPr id="182" name=""/>
            <p:cNvSpPr/>
            <p:nvPr/>
          </p:nvSpPr>
          <p:spPr>
            <a:xfrm>
              <a:off x="2971800" y="2288880"/>
              <a:ext cx="1828800" cy="1219320"/>
            </a:xfrm>
            <a:prstGeom prst="parallelogram">
              <a:avLst>
                <a:gd name="adj" fmla="val 37496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540000">
              <a:off x="2517480" y="3116520"/>
              <a:ext cx="914040" cy="78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53" y="567"/>
                  </a:moveTo>
                  <a:arcTo wR="10800" hR="10800" stAng="-4281098" swAng="4281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53" y="567"/>
                  </a:moveTo>
                  <a:arcTo wR="10800" hR="10800" stAng="-4281098" swAng="4281098"/>
                </a:path>
              </a:pathLst>
            </a:custGeom>
            <a:solidFill>
              <a:srgbClr val="ff0000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600000">
              <a:off x="2969280" y="1900440"/>
              <a:ext cx="91476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80" y="523"/>
                  </a:moveTo>
                  <a:arcTo wR="10800" hR="10800" stAng="-6474244" swAng="6474244"/>
                  <a:lnTo>
                    <a:pt x="10800" y="10800"/>
                  </a:lnTo>
                  <a:close/>
                </a:path>
                <a:path fill="none" w="21600" h="21600">
                  <a:moveTo>
                    <a:pt x="7480" y="523"/>
                  </a:moveTo>
                  <a:arcTo wR="10800" hR="10800" stAng="-6474244" swAng="6474244"/>
                </a:path>
              </a:pathLst>
            </a:custGeom>
            <a:solidFill>
              <a:srgbClr val="3333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5:57:17Z</dcterms:created>
  <dc:creator>wquincey</dc:creator>
  <dc:description/>
  <dc:language>en-US</dc:language>
  <cp:lastModifiedBy>wquincey</cp:lastModifiedBy>
  <dcterms:modified xsi:type="dcterms:W3CDTF">2006-03-31T02:41:11Z</dcterms:modified>
  <cp:revision>22</cp:revision>
  <dc:subject/>
  <dc:title>Slide 1</dc:title>
</cp:coreProperties>
</file>